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35.wmf" ContentType="image/x-wmf"/>
  <Override PartName="/ppt/media/image10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91AD-6600-4CA0-9888-86B2B89F1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7399-DA17-482B-B1E3-599243543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330C-F2BA-4474-9415-BF6308565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DE8D-B93E-4C73-B9E9-55B9A70CE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A6AD-D5C8-4F1F-8250-91601BA4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BC3E-71BF-4807-AB19-DFCEB19D7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EC32-A726-4721-8904-6B8BC892F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69BD-63CD-4E64-9404-366AB6C2B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F4D9-1D78-4508-869C-F7A9ACFEA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53EB-AB1C-40A6-8731-35EFDDAC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96A9-6946-406C-8E5C-6022D734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F0DB-D807-4395-ACA5-3F7C49CE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4F306-0E1F-4433-9844-30EBB702E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google.com/imgres?imgurl=http://fireflyforest.net/images/firefly/2005/April/cottonwood-seeds.jpg&amp;imgrefurl=http://fireflyforest.net/firefly/2005/04/18/cottonwood-snow-in-april/&amp;usg=__cIjGu_bqxl5ehvHDH-olpZlqygs=&amp;h=300&amp;w=300&amp;sz=33&amp;hl=en&amp;start=1&amp;zoom=1&amp;um=1&amp;itbs=1&amp;tbnid=J6iQDxnCxD1rWM:&amp;tbnh=116&amp;tbnw=116&amp;prev=/images%3Fq%3Dcottonwoods%26um%3D1%26hl%3Den%26safe%3Dactive%26sa%3DN%26tbs%3Disch:1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en.wikipedia.org/wiki/File:Salix_alba_Morton.jpg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www.google.com/imgres?imgurl=http://blog.worldtoafricahunting.com/wp-content/uploads/2010/01/client-ajaaron-jan-2010-005.jpg&amp;imgrefurl=http://blog.worldtoafricahunting.com/index.php/tag/trophy-kudu&amp;usg=__pfR2AV6UlC3ofvRi8AzB-FE0eok=&amp;h=368&amp;w=490&amp;sz=54&amp;hl=en&amp;start=3&amp;zoom=1&amp;um=1&amp;itbs=1&amp;tbnid=kZD_pXocQxVWPM:&amp;tbnh=98&amp;tbnw=130&amp;prev=/images%3Fq%3Danimal%2Bhunted%2Bin%2Bgrassland%26um%3D1%26hl%3Den%26safe%3Dactive%26tbs%3Disch:1" TargetMode="External"/><Relationship Id="rId3" Type="http://schemas.openxmlformats.org/officeDocument/2006/relationships/image" Target="../media/image25.jpeg"/><Relationship Id="rId4" Type="http://schemas.openxmlformats.org/officeDocument/2006/relationships/hyperlink" Target="http://www.google.com/imgres?imgurl=http://www.rbgsyd.nsw.gov.au/__data/assets/image/0009/80991/Grassland_fire_620.JPG&amp;imgrefurl=http://www.rbgsyd.nsw.gov.au/science/Evolutionary_Ecology_Research/Ecology_of_Cumberland_Plain_Woodland/woodland_ecology/impacting_events&amp;usg=__Me0rsymIZ7YRpZ90CdnSjTJSGMI=&amp;h=540&amp;w=620&amp;sz=105&amp;hl=en&amp;start=3&amp;zoom=1&amp;um=1&amp;itbs=1&amp;tbnid=fUHvD9ewo47ncM:&amp;tbnh=118&amp;tbnw=136&amp;prev=/images%3Fq%3Dfires%2Bin%2Bgrassland%26um%3D1%26hl%3Den%26safe%3Dactive%26tbs%3Disch:1" TargetMode="External"/><Relationship Id="rId5" Type="http://schemas.openxmlformats.org/officeDocument/2006/relationships/image" Target="../media/image26.jpeg"/><Relationship Id="rId6" Type="http://schemas.openxmlformats.org/officeDocument/2006/relationships/hyperlink" Target="http://www.google.com/imgres?imgurl=http://image.shutterstock.com/display_pic_with_logo/346441/346441,1239281599,2/stock-photo-cattle-and-grassland-28222030.jpg&amp;imgrefurl=http://www.shutterstock.com/pic-28222030/stock-photo-cattle-and-grassland.html&amp;usg=__phNGViHPYL_aP9XC67ubFZX5itE=&amp;h=320&amp;w=450&amp;sz=104&amp;hl=en&amp;start=1&amp;zoom=1&amp;um=1&amp;itbs=1&amp;tbnid=Yit6MekwXpmusM:&amp;tbnh=90&amp;tbnw=127&amp;prev=/images%3Fq%3Dcattle%2Bin%2Bgrassland%26um%3D1%26hl%3Den%26safe%3Dactive%26tbs%3Disch:1" TargetMode="External"/><Relationship Id="rId7" Type="http://schemas.openxmlformats.org/officeDocument/2006/relationships/image" Target="../media/image27.jpeg"/><Relationship Id="rId8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wmnet.org.uk/resources/stern/stern/commonimages/crops.jpg&amp;imgrefurl=http://www.ecollo.com/%3Ftag%3D/food%2Bprices%26page%3D2&amp;usg=__77E0JU62N_lFvcXt7xG0BuRuWYY=&amp;h=339&amp;w=510&amp;sz=268&amp;hl=en&amp;start=2&amp;zoom=1&amp;um=1&amp;itbs=1&amp;tbnid=L2NRwxI2xMSpUM:&amp;tbnh=87&amp;tbnw=131&amp;prev=/images%3Fq%3Dcrops%26um%3D1%26hl%3Den%26safe%3Dactive%26tbs%3Disch:1" TargetMode="External"/><Relationship Id="rId2" Type="http://schemas.openxmlformats.org/officeDocument/2006/relationships/image" Target="../media/image28.jpeg"/><Relationship Id="rId3" Type="http://schemas.openxmlformats.org/officeDocument/2006/relationships/hyperlink" Target="http://www.google.com/imgres?imgurl=http://ledgeandgardens.typepad.com/.a/6a00d8341c991c53ef0120a60362f5970c-800wi&amp;imgrefurl=http://ledgeandgardens.typepad.com/ledge_and_gardens/2009/09/michael-dirr-and-his-noble-trees-blithewold.html&amp;usg=__OrlVb4432Rwq9EZCOYgdq0jUwZk=&amp;h=532&amp;w=800&amp;sz=162&amp;hl=en&amp;start=3&amp;zoom=1&amp;um=1&amp;itbs=1&amp;tbnid=sdxKGZ6AVroy_M:&amp;tbnh=95&amp;tbnw=143&amp;prev=/images%3Fq%3Dwoody%2Btrees%26um%3D1%26hl%3Den%26safe%3Dactive%26sa%3DN%26tbs%3Disch:1" TargetMode="External"/><Relationship Id="rId4" Type="http://schemas.openxmlformats.org/officeDocument/2006/relationships/image" Target="../media/image29.jpeg"/><Relationship Id="rId5" Type="http://schemas.openxmlformats.org/officeDocument/2006/relationships/hyperlink" Target="http://www.google.com/imgres?imgurl=http://www.nationalgeographic.com/adventure/images/0606/national-parks.jpg&amp;imgrefurl=http://www.nationalgeographic.com/adventure/national-parks/best-parks.html&amp;usg=__ai1XZNHNpeRQhnjhIvyAK565kTk=&amp;h=317&amp;w=484&amp;sz=55&amp;hl=en&amp;start=1&amp;zoom=1&amp;um=1&amp;itbs=1&amp;tbnid=da-L5hRKGBLzEM:&amp;tbnh=84&amp;tbnw=129&amp;prev=/images%3Fq%3Dnational%2Bparks%26um%3D1%26hl%3Den%26safe%3Dactive%26tbs%3Disch:1" TargetMode="External"/><Relationship Id="rId6" Type="http://schemas.openxmlformats.org/officeDocument/2006/relationships/image" Target="../media/image30.jpeg"/><Relationship Id="rId7" Type="http://schemas.openxmlformats.org/officeDocument/2006/relationships/hyperlink" Target="http://www.google.com/imgres?imgurl=http://blog.maia-intelligence.com/wp-content/uploads/2008/09/images_government_icon_-_symbo_01.jpg&amp;imgrefurl=http://blog.maia-intelligence.com/2008/09/03/business-intelligence-for-public-sector-government/&amp;usg=__ka1ul1UP818E0i6fOTFXy-B3fd4=&amp;h=482&amp;w=500&amp;sz=29&amp;hl=en&amp;start=3&amp;zoom=1&amp;um=1&amp;itbs=1&amp;tbnid=nvk41ESiXim9pM:&amp;tbnh=125&amp;tbnw=130&amp;prev=/images%3Fq%3Dgovernment%26um%3D1%26hl%3Den%26safe%3Dactive%26tbs%3Disch:1" TargetMode="External"/><Relationship Id="rId8" Type="http://schemas.openxmlformats.org/officeDocument/2006/relationships/image" Target="../media/image31.jpeg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gpnc.org/images/jpegs/animals/bison.jpg&amp;imgrefurl=http://www.gpnc.org/bison.htm&amp;usg=__vH_UP8wgvXAHKGxgQR528bFtnqA=&amp;h=292&amp;w=392&amp;sz=19&amp;hl=en&amp;start=1&amp;zoom=1&amp;um=1&amp;itbs=1&amp;tbnid=u7K_N001KZRhJM:&amp;tbnh=92&amp;tbnw=123&amp;prev=/images%3Fq%3Dbison%26um%3D1%26hl%3Den%26safe%3Dactive%26sa%3DN%26tbs%3Disch:1" TargetMode="External"/><Relationship Id="rId2" Type="http://schemas.openxmlformats.org/officeDocument/2006/relationships/image" Target="../media/image32.jpeg"/><Relationship Id="rId3" Type="http://schemas.openxmlformats.org/officeDocument/2006/relationships/hyperlink" Target="http://www.google.com/imgres?imgurl=http://upload.wikimedia.org/wikipedia/commons/c/cd/Sheep_and_goats.jpg&amp;imgrefurl=http://commons.wikimedia.org/wiki/File:Sheep_and_goats.jpg&amp;usg=__yagkZK1uOiMGQkenoFq0fsftHB0=&amp;h=910&amp;w=1353&amp;sz=451&amp;hl=en&amp;start=2&amp;zoom=1&amp;um=1&amp;itbs=1&amp;tbnid=d5IkWzgemw_x2M:&amp;tbnh=101&amp;tbnw=150&amp;prev=/images%3Fq%3Dsheep%2Band%2Bgoats%26um%3D1%26hl%3Den%26safe%3Dactive%26sa%3DN%26tbs%3Disch:1" TargetMode="External"/><Relationship Id="rId4" Type="http://schemas.openxmlformats.org/officeDocument/2006/relationships/image" Target="../media/image33.jpeg"/><Relationship Id="rId5" Type="http://schemas.openxmlformats.org/officeDocument/2006/relationships/hyperlink" Target="http://www.google.com/imgres?imgurl=http://www.missouriplants.com/Yellowopp/Helianthus_divaricatus_flowers.jpg&amp;imgrefurl=http://www.missouriplants.com/Yellowopp/Helianthus_divaricatus_page.html&amp;usg=__W-J2oEuDpbxhlU4plpC3JHP3wU0=&amp;h=449&amp;w=450&amp;sz=41&amp;hl=en&amp;start=2&amp;zoom=1&amp;um=1&amp;itbs=1&amp;tbnid=axuO9VsiGsWlCM:&amp;tbnh=127&amp;tbnw=127&amp;prev=/images%3Fq%3Dflowers%26um%3D1%26hl%3Den%26safe%3Dactive%26tbs%3Disch:1" TargetMode="External"/><Relationship Id="rId6" Type="http://schemas.openxmlformats.org/officeDocument/2006/relationships/image" Target="../media/image34.jpeg"/><Relationship Id="rId7" Type="http://schemas.openxmlformats.org/officeDocument/2006/relationships/image" Target="../media/image35.wmf"/><Relationship Id="rId8" Type="http://schemas.openxmlformats.org/officeDocument/2006/relationships/image" Target="../media/image36.jpeg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19320" y="1905120"/>
            <a:ext cx="7081560" cy="30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prstDash val="sysDot"/>
                  <a:miter/>
                </a:ln>
                <a:solidFill>
                  <a:srgbClr val="008000"/>
                </a:solidFill>
                <a:latin typeface="Elephant"/>
              </a:rPr>
              <a:t>Temperate Grasslands</a:t>
            </a:r>
            <a:endParaRPr b="0" lang="en-US" sz="1800" spc="1" strike="noStrike">
              <a:ln w="9360">
                <a:solidFill>
                  <a:srgbClr val="000000"/>
                </a:solidFill>
                <a:prstDash val="sysDot"/>
                <a:miter/>
              </a:ln>
              <a:solidFill>
                <a:srgbClr val="008000"/>
              </a:solidFill>
              <a:latin typeface="Elephant"/>
              <a:ea typeface="Elephant"/>
            </a:endParaRPr>
          </a:p>
        </p:txBody>
      </p:sp>
      <p:sp>
        <p:nvSpPr>
          <p:cNvPr id="42" name=""/>
          <p:cNvSpPr/>
          <p:nvPr/>
        </p:nvSpPr>
        <p:spPr>
          <a:xfrm>
            <a:off x="1981080" y="4952880"/>
            <a:ext cx="59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"/>
              </a:rPr>
              <a:t>By: Tyler Mensch, Dominic Bogucki, and Ariel Scho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tton Wo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flowering shrub or tre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133720" y="2419200"/>
            <a:ext cx="443844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llo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ows have bark that store water for a long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90920" y="2895480"/>
            <a:ext cx="380988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ple Needle Gr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ve Grass used for low water availa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362320" y="2971800"/>
            <a:ext cx="358272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daptations of Animal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mall Rodents adapted with thicker teeth to get through the thick gr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dapt to dry, windy condi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ome animals have flat topped teeth, which is for eating gr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ny Prairie animals have front legs and paws that allow them to bur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y need to adapt to nocturnal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Adaptations of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Many plants grow way underground, where it can survive a fi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Many have roots 3.5 inches into the ground, incase of a drough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Many have narrow leaves, which will loose less water to evaporation compared to the thicker l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They have brightly colored plants which will attract pollinators like b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896160" y="5464080"/>
            <a:ext cx="2247840" cy="13939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2280" y="5410080"/>
            <a:ext cx="1828800" cy="13795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315200" y="0"/>
            <a:ext cx="1828800" cy="12574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0" y="0"/>
            <a:ext cx="1447920" cy="10256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uman Impact on the Bi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14400" y="152352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re growing crops and raising catt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es are started by humans damaging the so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imals are hunted which interfere with the food ch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ssland has been converted to farmland and very little natural prairie exists to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lutants are taken into the atmosphere from fires and the equipment that establishments use to kill animals and cut down trees, to make mon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8880" y="5592600"/>
            <a:ext cx="1905120" cy="12654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952960"/>
            <a:ext cx="1362240" cy="9050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rotecting the Bi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overnment can limit who can interfere with the grassl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shing perm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nting perm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riculture perm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national parks to preserve the enviro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off the area to anyone w/o permit or author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awareness  programs to everyone, so they know about people who are hurting the temperate grassland and the organisms that live t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ing organizations from taking over the area and hurting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make any major changes to the Biome( kill most of animals, plant crops, or any other unnatural subst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28600" y="380880"/>
            <a:ext cx="1523880" cy="992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543800" y="304920"/>
            <a:ext cx="123840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752480" cy="1311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0" y="0"/>
            <a:ext cx="2286000" cy="15397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648400"/>
            <a:ext cx="1600200" cy="12096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7"/>
          <a:stretch/>
        </p:blipFill>
        <p:spPr>
          <a:xfrm>
            <a:off x="2819520" y="1676520"/>
            <a:ext cx="3676680" cy="36925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he Commercial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son are hunted for their me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imals’ body parts  are very valuable for replacements for hum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i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eal gr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sing livestock for human consumption and for milk and other dairy produ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ssland vege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tle, sheep, g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8"/>
          <a:stretch/>
        </p:blipFill>
        <p:spPr>
          <a:xfrm>
            <a:off x="7391520" y="5332320"/>
            <a:ext cx="1752480" cy="15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eady For Some 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an adaptation? Give one example of an animal in temperate grassl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is a grassland biome loca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a biome? How is a grassland a bio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ypes of animals live there? Pla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precipitation does grasslands receive per month? Clima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of earth’s surface is grassla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's the importance of grasslan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Endangered Species in this biome? Decompo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do to ensure survival of grasslan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humans use in grasslands to make mone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ks C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logy Boo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encoe Science Bi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ack  Biology Text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ucmp.berkeley.edu/exhibits/biome.htm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thewildclassroom.c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blueplanetbiomes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museum.state.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enchantedlearning.com/biomes/grassland/grassland.shtm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library.thinkquest.org/26634/grass/impact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lin Sans FB"/>
              </a:rPr>
              <a:t>Where are temperate grassland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4792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lin Sans FB"/>
              </a:rPr>
              <a:t>Temperate grasslands are found in North America, Eurasia, Southern South America, Southern and Central Africa, Australia and New Zeal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828800" y="1676520"/>
            <a:ext cx="552456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odoni MT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doni MT Black"/>
              </a:rPr>
              <a:t>Slides 1-4 completed by Tyler Mens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odoni MT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doni MT Black"/>
              </a:rPr>
              <a:t>Slides 5-14 completed by Dominic Boguck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odoni MT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doni MT Black"/>
              </a:rPr>
              <a:t>Slides 15-20 completed by Ariel Schofiel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Berlin Sans FB"/>
              </a:rPr>
              <a:t>Temperate Grassland </a:t>
            </a:r>
            <a:br>
              <a:rPr sz="4400"/>
            </a:br>
            <a:r>
              <a:rPr b="1" lang="en-US" sz="4400" spc="-1" strike="noStrike" u="sng">
                <a:solidFill>
                  <a:srgbClr val="ff0000"/>
                </a:solidFill>
                <a:uFillTx/>
                <a:latin typeface="Berlin Sans FB"/>
              </a:rPr>
              <a:t>Geological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emperate grasslands are large, flat lands and homes to a large community of 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he soil is very rich, therefore many types of grasses and shrubs g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During the winter, grasses will die resulting in a lot of hummus, creating a continuous underground s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Herds of large grazing animals, such as bison, populate grasslands at only certain times of the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Organisms in this biome include jack rabbits, deer, elk, prairie dogs, insects, reptiles and many species of bi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Gill Sans Ultra Bold"/>
              </a:rPr>
              <a:t>Precipitation </a:t>
            </a:r>
            <a:br>
              <a:rPr sz="4400"/>
            </a:br>
            <a:r>
              <a:rPr b="0" lang="en-US" sz="4400" spc="-1" strike="noStrike">
                <a:solidFill>
                  <a:srgbClr val="00ccff"/>
                </a:solidFill>
                <a:latin typeface="Gill Sans Ultra Bold"/>
              </a:rPr>
              <a:t>and Cli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Berlin Sans FB"/>
              </a:rPr>
              <a:t>Average Annual Precipitation: 25 to 75 centimeters of ra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Berlin Sans FB"/>
              </a:rPr>
              <a:t>Temperature Range: Up to 100 degrees Fahrenheit in the summer, and in some grasslands, down to -40 degrees in the win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s of An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ze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eb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irie d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w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na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ackbi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14800" y="2209680"/>
            <a:ext cx="43434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irie Do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rrowing ro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038480" y="2133720"/>
            <a:ext cx="51055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azel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 charming antelo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523880" y="2514600"/>
            <a:ext cx="586764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w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ng tails and high visual acuity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657760" y="2209680"/>
            <a:ext cx="34862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s of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19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tton W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a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ple Needle gr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azing St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ffalo Gr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nflo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Liatris pychnostachya"/>
          <p:cNvPicPr/>
          <p:nvPr/>
        </p:nvPicPr>
        <p:blipFill>
          <a:blip r:embed="rId2"/>
          <a:stretch/>
        </p:blipFill>
        <p:spPr>
          <a:xfrm>
            <a:off x="6705720" y="685800"/>
            <a:ext cx="210492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2:53:15Z</dcterms:created>
  <dc:creator>xpstudent</dc:creator>
  <dc:description/>
  <dc:language>en-US</dc:language>
  <cp:lastModifiedBy>xpstudent</cp:lastModifiedBy>
  <dcterms:modified xsi:type="dcterms:W3CDTF">2010-10-28T13:08:11Z</dcterms:modified>
  <cp:revision>6</cp:revision>
  <dc:subject/>
  <dc:title>Temperate Grassland</dc:title>
</cp:coreProperties>
</file>